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0E8-1926-43F1-B769-246AFF3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3B0-C181-43BE-B7FB-09EB9CE1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9DC-7FC1-4D05-BE49-D2677E6A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26B-5E77-49BB-956F-0F7CCAE1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6DE-C40D-4E47-85E2-D12148A7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388-8BE0-4A79-8F5E-0BBA6464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AA9E-0758-4621-8557-4A271899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F81-97E1-434B-BC2D-5CFF7795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BF10-F5CC-4908-9672-3BCD5D4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60B-AB30-480E-AD80-79265073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2F1-8DDB-4621-BDDA-BECBB6D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6C8-0656-491C-B6C5-53047F48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2CE7-5620-4E50-831A-96983A2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59A3-D48B-4E39-A32D-A07C3C6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694-9F52-4A23-BDEE-6F8652D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E28-5BC8-49DB-8E8B-D26B60EF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98E-4426-476C-BDC1-91042290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A91-21CC-4D6C-88C0-1E618CC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ABC-2840-4CD9-9BCD-63F7602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11F-CD04-400E-B967-978D415C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362-F8F2-4551-A1A2-61F07DB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A13-0C3B-43F5-8EE1-946A2C5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0C4-2F02-4D1F-BDF0-E0AE449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D43-4E2B-4022-80EF-BF66EFD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0F0F1-A3E0-49BE-B6AC-9DAD7957BBE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F62E5-AB61-4C9C-9D37-FA7B507E0F3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2901D-66F7-4BDE-A125-C7DF192C51F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B9BC7-DCB6-4412-A091-96783708DBE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vascular system; 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 Placeholder 2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525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1219320"/>
            <a:ext cx="3886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9880" y="107640"/>
            <a:ext cx="47815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chinoderm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228600" y="10800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743200" y="2514600"/>
            <a:ext cx="622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di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doskeleton of hard pl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vascular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rve ring with nerve cords along each a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separate sexes with ex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ort tract with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uid in body cavity transports nutr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25:01Z</dcterms:modified>
  <cp:revision>10</cp:revision>
  <dc:subject/>
  <dc:title>Animal Phyla Chart</dc:title>
</cp:coreProperties>
</file>